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67A-4371-4ED5-9D82-5277814B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627-46D8-45FA-9CEC-7C5C7D4A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E8C-8B6E-4C90-BA23-A937A016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EE7-4AE8-4A68-A5CE-C249F2FD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648D-8944-4B53-8DDD-0920E75A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AED-2BC7-408C-9DC7-49D4D3C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73CD-F2B8-4EE3-BF12-1C970070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BEFD-A310-422F-81E7-6F72D7A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A007-FA67-457F-A02A-91F1ED94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A89-3992-467C-9F70-254DB103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2EA9-AB17-4836-92A4-72F42CD8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576-B313-4E71-9B1A-A6B34165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D2D-5A09-494B-B1A3-44BE381E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76E-3203-47B7-9F2C-79D3F5F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346B-FB58-4A40-B876-67392194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C184-A3B2-4AE3-ABD9-96113DE2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948C-9117-4A34-BAF9-D39992F3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25FD-2DF0-4855-9863-09798F87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7B9B-E541-4373-8344-F65163AF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593E-E7C7-40B5-98EC-84F5350B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46DA-541C-4BF0-98AA-5693865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3D8D-6F84-40CB-BE4F-308002B1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218-C085-41DC-8963-81C4868D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CBA7-58DB-4A44-BE4E-9DBF9659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27B8-FA89-435A-89B7-8ADF3A15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CE85-7DCB-4D9C-8B30-6E95021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967E-8863-4477-A5B7-2CFF8D1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C3B4-7607-431B-A3FC-4CB7D7D9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A435-6040-4627-AD3C-45DCD25E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8C64-A77A-47C9-BACA-CF9986CA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2E2C-53A4-4A6B-82DF-006686E4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276C1-E260-4243-8A96-4BECF1AE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76FC-AE30-4CA3-B582-D55147C3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F93-184D-4288-8FD6-D76ABDD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A935-ED80-43C3-B0C0-29A57778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7369-B1A0-4DED-88CA-DC318B7B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55EA-C28A-4431-A6A6-12B1D727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5C4E-65FB-4B0A-B4DD-9A33BF6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8176-D405-4855-B9E4-00DB266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483E5-B9A2-41FD-8DA6-06CDC91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1295-5038-4007-A408-7F24AF7F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A07E-33EE-4AEB-B04B-D617692E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7F09-3292-43C4-BC9A-CF933004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E04-5A9C-48DA-927A-4C60133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B79-D956-4B80-87C6-553CC3DC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AA9-98B3-4703-B15D-EADEA459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C98-0448-4EA8-9065-0C6752AA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44D-0E61-4EDD-AD54-B5DC69B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0898-074E-4061-B69F-9F918266F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0020-FCDB-47B4-A1F4-95CF6B615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80F3-D66F-4042-A1BF-03E216F19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93C2-D496-46EC-B941-871E93F32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500" spc="-1" strike="noStrike">
                <a:solidFill>
                  <a:srgbClr val="ffffff"/>
                </a:solidFill>
                <a:latin typeface="Arial"/>
              </a:rPr>
              <a:t>ИСТРАЖИВАЊЕ</a:t>
            </a:r>
            <a:br>
              <a:rPr sz="4500"/>
            </a:br>
            <a:br>
              <a:rPr sz="600"/>
            </a:br>
            <a:r>
              <a:rPr b="0" lang="sr-CS" sz="4500" spc="-1" strike="noStrike">
                <a:solidFill>
                  <a:srgbClr val="ffffff"/>
                </a:solidFill>
                <a:latin typeface="Arial"/>
              </a:rPr>
              <a:t>ЕПИДЕМИЈЕ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ФАКУЛТЕТ МЕДИЦИНСКИХ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19560" y="279360"/>
            <a:ext cx="7048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сновн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pl-PL" sz="3000" spc="-1" strike="noStrike">
                <a:solidFill>
                  <a:srgbClr val="ffff00"/>
                </a:solidFill>
                <a:latin typeface="Arial"/>
              </a:rPr>
              <a:t> епидемиолошк</a:t>
            </a:r>
            <a:r>
              <a:rPr b="0" lang="sr-CS" sz="30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pl-PL" sz="3000" spc="-1" strike="noStrike">
                <a:solidFill>
                  <a:srgbClr val="ffff00"/>
                </a:solidFill>
                <a:latin typeface="Arial"/>
              </a:rPr>
              <a:t>пода</a:t>
            </a:r>
            <a:r>
              <a:rPr b="0" lang="sr-CS" sz="3000" spc="-1" strike="noStrike">
                <a:solidFill>
                  <a:srgbClr val="ffff00"/>
                </a:solidFill>
                <a:latin typeface="Arial"/>
              </a:rPr>
              <a:t>ци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оболелих прикупити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основне</a:t>
            </a:r>
            <a:r>
              <a:rPr b="0" lang="pl-PL" sz="2200" spc="-1" strike="noStrike">
                <a:solidFill>
                  <a:srgbClr val="ffff00"/>
                </a:solidFill>
                <a:latin typeface="Arial"/>
              </a:rPr>
              <a:t> епидемиолошке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00"/>
                </a:solidFill>
                <a:latin typeface="Arial"/>
              </a:rPr>
              <a:t>подат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рви дан обољењ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 основу познавања дужин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нкубације приближно одредити време излагања аген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нформације о кретању болесника, контактима које ј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мао, особама са сличним симптомима у његовој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колини, догађајима и понашању који су заједнички за св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њих и с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Вешто вођен разговор помаже у постављању 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ХИПОТЕЗЕ</a:t>
            </a:r>
            <a:r>
              <a:rPr b="0" lang="sr-Latn-CS" sz="22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о узрок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извор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пут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ширењ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болести, као и процен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грожене попула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4040" y="274320"/>
            <a:ext cx="83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ЕФИНИСАТИ БРОЈИЛАЦ ("СЛУЧАЈЕВЕ")</a:t>
            </a:r>
            <a:br>
              <a:rPr sz="2000"/>
            </a:b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3680" y="2103480"/>
            <a:ext cx="869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Формулисање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тзв.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ccff33"/>
                </a:solidFill>
                <a:latin typeface="Arial"/>
              </a:rPr>
              <a:t>радне или операционал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33"/>
                </a:solidFill>
                <a:latin typeface="Arial"/>
              </a:rPr>
              <a:t>дефиниције "случаја"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(обољења, поремећаја здравља)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Низ специфичних критеријума на основу кој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ће с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длучити да ли нека особа има поремећај здравља који с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спиту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Заснива се на клиничком налазу, карактеристикама сам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олелих и информацијама о месту и времену јављањ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епидем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ДЕФИНИСАТИ БРОЈИЛАЦ ("СЛУЧАЈЕВЕ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Идеално </a:t>
            </a:r>
            <a:r>
              <a:rPr b="0" lang="sr-Latn-CS" sz="2600" spc="-1" strike="noStrike">
                <a:solidFill>
                  <a:srgbClr val="66ff33"/>
                </a:solidFill>
                <a:latin typeface="Arial"/>
              </a:rPr>
              <a:t>-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таква да се помоћу ње обухвате скоро сви обол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а минимум сведе могућност појаве тзв. лажн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позитивних случајева (особа која задовољава критеријум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дефиниције случаја, али у ствари нема обољење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440" y="512280"/>
            <a:ext cx="823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ЕФИНИСАТИ ИМЕНИЛАЦ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 која је</a:t>
            </a:r>
            <a:br>
              <a:rPr sz="2800"/>
            </a:b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популација изложена ризику оболевањ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41000" y="205416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адници у фабрици, ђаци у школи или абонен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неког ресторана где се епидемија јав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када је тешко утврдити ко све припада 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зложеној ризик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Епидемије се одигравају на ширем географс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дручју и обухватају више група људи које нема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лако уочљиве исте карактерис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ибавити детаљни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формације о оболелима које могу дати идеју о томе које су особе изложене ризи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000" y="1469880"/>
            <a:ext cx="82263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У епидемији је потребно израчунати </a:t>
            </a:r>
            <a:r>
              <a:rPr b="0" lang="pl-PL" sz="22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стопу</a:t>
            </a:r>
            <a:r>
              <a:rPr b="0" lang="pl-PL" sz="22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0" lang="sr-CS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јављањ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стопу</a:t>
            </a:r>
            <a:r>
              <a:rPr b="0" lang="pl-PL" sz="22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секундарног јавља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инфицираних или оболел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СТОПА "ЈАВЉАЊА"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= —————————————————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pl-PL" sz="2200" spc="-1" strike="noStrike">
                <a:solidFill>
                  <a:srgbClr val="ffff00"/>
                </a:solidFill>
                <a:latin typeface="Arial"/>
              </a:rPr>
              <a:t>опулација (на почетку епидемије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новоинфициран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СТОПА СЕКУНДАРНОГ "ЈАВЉАЊА"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———————————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изложен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сетљивих особ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9120" y="743040"/>
            <a:ext cx="72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ИЗРАЧУНАТИ СТОПЕ ЈАВЉ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"Стопа" јаваљањ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20509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"Стопа" јаваљања је пропорција и представља однос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броја оболелих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ли инфицираних особа и популац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зложене ризи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инфицираних или оболел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СТОПА "ЈАВЉАЊА"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= —————————————————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pl-PL" sz="2200" spc="-1" strike="noStrike">
                <a:solidFill>
                  <a:srgbClr val="ffff00"/>
                </a:solidFill>
                <a:latin typeface="Arial"/>
              </a:rPr>
              <a:t>опулација (на почетку епидемије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"Стопа" секундарног јављ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206388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топа" јављања код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сетљивих особа изложених примарни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"случајевима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новоинфициран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СТОПА СЕКУНДАРНОГ "ЈАВЉАЊА"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———————————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изложен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сетљивих особ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 бројиоца и имениоца искључени су они који су већ болес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ли зараж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ИСПИТАТИ РАСПОДЕЛ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у односу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А.</a:t>
            </a: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Вр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Б.</a:t>
            </a: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В.</a:t>
            </a: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Особе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сагледати ризик у подгруп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угрожене популације у односу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демографске карактеристик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пол,узрас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место боравка,занимање,социјалну гру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432320" y="433440"/>
            <a:ext cx="433368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725400"/>
            <a:ext cx="82263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ИСПИТАТИ РАСПОДЕЛУ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9440" y="2316240"/>
            <a:ext cx="82263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ескриптивно епидемиоло</a:t>
            </a:r>
            <a:r>
              <a:rPr b="0" lang="sr-Latn-CS" sz="3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sr-Latn-CS" sz="30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обрад</a:t>
            </a:r>
            <a:r>
              <a:rPr b="0" lang="sr-Latn-CS" sz="30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sr-CS" sz="30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кон прикупљања податак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виш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пута током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страживањ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епидем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36600" y="313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А.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У ОДНОСУ НА 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ВР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2440" y="19051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0" lang="pl-PL" sz="2600" spc="-1" strike="noStrike">
                <a:solidFill>
                  <a:srgbClr val="66ff33"/>
                </a:solidFill>
                <a:latin typeface="Arial"/>
              </a:rPr>
              <a:t>графички приказ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тока епидемије најчешће с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ористи </a:t>
            </a:r>
            <a:r>
              <a:rPr b="0" lang="pl-PL" sz="2600" spc="-1" strike="noStrike">
                <a:solidFill>
                  <a:srgbClr val="66ff33"/>
                </a:solidFill>
                <a:latin typeface="Arial"/>
              </a:rPr>
              <a:t>стубичасти дијаграм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у коме је сва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оболел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особа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представљена једним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вадратић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 апсцису (x осу) уноси се одговарајући временс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ериод у коме се одиграла епидемија (по недељам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данима, сатим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 ординату (y осу) 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→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број оболел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31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936800"/>
            <a:ext cx="7631280" cy="4192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и заразне или незаразне етиологиј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астоји се од утврђивања да је епидемиј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и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стала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дређ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 ризичне популације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звора, пута ширењ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зроч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бољ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едузимања адекват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отивепидемијских 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Циљан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→ прилагодит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услови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 приликама 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тере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7960" y="2063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07960" y="2932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405160" y="1538280"/>
            <a:ext cx="4333680" cy="162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166680"/>
            <a:ext cx="94284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3440" y="77760"/>
            <a:ext cx="60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Истраживање епидем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477720" y="374508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6640" y="458280"/>
            <a:ext cx="884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Добијена </a:t>
            </a:r>
            <a:r>
              <a:rPr b="0" lang="pl-PL" sz="4000" spc="-1" strike="noStrike">
                <a:solidFill>
                  <a:srgbClr val="66ff33"/>
                </a:solidFill>
                <a:latin typeface="Arial"/>
              </a:rPr>
              <a:t>епидемијска крива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 служи з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ријентацију о извору и путу шире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омаже у одређивању времена излага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Даје идеје о агенсу на основу познавања дужи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нкубације и латентног периода боле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казује на постојање епидемијских тала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могућава предвиђање даљег тока епидем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цртавањем дела криве који недостаје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3399"/>
                </a:solidFill>
                <a:latin typeface="Arial"/>
              </a:rPr>
              <a:t>↑</a:t>
            </a:r>
            <a:r>
              <a:rPr b="0" lang="sr-CS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злазна путања: бр. оболелих ће се повећав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излазна путања: епидемија јења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344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Може да објасни механизам настанка епидем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0160" y="712800"/>
            <a:ext cx="89438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Епидемијска крива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Оријентацију о извору и путу ширењ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9440" y="2155320"/>
            <a:ext cx="8226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основу њеног изгледа постоји подела епидемија на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49"/>
              </a:spcBef>
              <a:buClr>
                <a:srgbClr val="66ff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Епидемије заједничког изво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49"/>
              </a:spcBef>
              <a:buClr>
                <a:srgbClr val="66ff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Прогресивне или пропагирајуће епидем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49"/>
              </a:spcBef>
              <a:buClr>
                <a:srgbClr val="66ff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Епидемије мешаног тип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65160" y="1722600"/>
            <a:ext cx="53341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080" y="514080"/>
            <a:ext cx="89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ријентаци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о извору и путу ширењ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ПИДЕМИЈЕ ЗАЈЕДНИЧКОГ ИЗВОРА</a:t>
            </a: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9400" y="180036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ви оболели дошли су у контакт са истим извор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разе (за биолошке агенсе), односно извором болести (за физичке и хемијске агенс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пидемије </a:t>
            </a:r>
            <a:r>
              <a:rPr b="0" lang="sr-Latn-CS" sz="2400" spc="-1" strike="noStrike" u="sng">
                <a:solidFill>
                  <a:srgbClr val="ffff00"/>
                </a:solidFill>
                <a:uFillTx/>
                <a:latin typeface="Arial"/>
              </a:rPr>
              <a:t>краткотрајног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изво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ако је експозициј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раткотрајна (сви оболели изложени истовремено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епидемија ће се одиграти у интервалу измеђ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минималне и максималне инкубације (слика 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пидемије </a:t>
            </a:r>
            <a:r>
              <a:rPr b="0" lang="sr-Latn-CS" sz="2400" spc="-1" strike="noStrike" u="sng">
                <a:solidFill>
                  <a:srgbClr val="ffff00"/>
                </a:solidFill>
                <a:uFillTx/>
                <a:latin typeface="Arial"/>
              </a:rPr>
              <a:t>сталног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изво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пидем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повременог изво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појединачни или груписан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случајеви током релативно дужег периода 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епидемијској криви (слика 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0960" y="552240"/>
            <a:ext cx="82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Епидемије краткотрајног извора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  </a:t>
            </a:r>
            <a:br>
              <a:rPr sz="24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пидемија ентероколитис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азвана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нтероинвазивно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М.Чобељић, 1985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03200" y="1932120"/>
            <a:ext cx="822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440" y="6188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Епидемије сталног извора или епидемије повременог извора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Епидемија нозокомијалне легионелозе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P. Astagneau, 199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1986120"/>
            <a:ext cx="822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Оријентациј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a</a:t>
            </a: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 о извору и путу ширења</a:t>
            </a:r>
            <a:br>
              <a:rPr sz="2000"/>
            </a:b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РОГРЕСИВНЕ ИЛИ ПРОПАГИРАЈУЋ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ЕПИДЕМ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Болест се са инфицираних преноси н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осетљиве особе различитим путевима ширењ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За разлику од претходних, могу с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јавити сам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од заразних боле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Оријентациј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a</a:t>
            </a: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 о извору и путу ширења</a:t>
            </a:r>
            <a:br>
              <a:rPr sz="2000"/>
            </a:b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ЕПИДЕМИЈЕ МЕШАНОГ ТИ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 почетку имају карактеристике епидем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једничког извора, а затим услед преноше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болести са инфицираних на осетљиве осо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обијају продужени ток (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тактни реп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Особе које су заражене услед излагања заједнич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извору представљају примарне случаје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Заражавање тзв. секун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н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0" lang="pl-PL" sz="24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случајева</a:t>
            </a:r>
            <a:r>
              <a:rPr b="0" lang="pl-PL" sz="24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наста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услед преношења агенса са једне особе на дру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44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Епидемије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мешаног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типа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Алиментарна епидемија ентероколитиса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оворођенчад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ГЗЗЗ, 199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1520" y="2332080"/>
            <a:ext cx="80276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0600" y="923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33"/>
                </a:solidFill>
                <a:latin typeface="Arial"/>
              </a:rPr>
              <a:t>Епидемијска крива </a:t>
            </a: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помаже </a:t>
            </a:r>
            <a:r>
              <a:rPr b="1" lang="ru-RU" sz="2800" spc="-1" strike="noStrike">
                <a:solidFill>
                  <a:srgbClr val="ccff33"/>
                </a:solidFill>
                <a:latin typeface="Arial"/>
              </a:rPr>
              <a:t>у одређивању времена излагања </a:t>
            </a:r>
            <a:br>
              <a:rPr sz="2000"/>
            </a:b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95160" y="2450880"/>
            <a:ext cx="766944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 врха криве одузме се просеч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кубација 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 првог случаја се одузме најкраћа, а 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њег најдужа инкуб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098880" y="1735200"/>
            <a:ext cx="533376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560" y="56628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дређивање времена експозиц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 епидемији рубеле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 основу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просечне инкубац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д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(JL Kelsey, 19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30200" y="2117880"/>
            <a:ext cx="822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1200" y="2447640"/>
            <a:ext cx="8226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Шема истраживања епидемије</a:t>
            </a:r>
            <a:br>
              <a:rPr sz="3600"/>
            </a:b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(по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3600" spc="-1" strike="noStrike">
                <a:solidFill>
                  <a:srgbClr val="ffff00"/>
                </a:solidFill>
                <a:latin typeface="Arial"/>
              </a:rPr>
              <a:t>Gordisu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2000)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, додатна објашњења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Радовановић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, 200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593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Одређивањ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времена експозиц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 епидемији рубеле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 основу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минималн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д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и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максималн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да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нкубац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JL Kelsey, 19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5760" y="1971720"/>
            <a:ext cx="822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Б.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ОДНОСУ 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МЕ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опографска обрада података може да да идеју о мест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експози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 мапи подручја где се одвија епидемија уцртају се св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олели по месту становања, радном месту и сл. 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уочити груписањ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, што би могло да укаже на извор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/или пут ширењ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Ако је величина популације различита у подручјима кој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оредимо, може да уследи погрешан закључак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посматрати "стопу" јављања по подручј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 болести ниск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честалости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истовремен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посматрати груписање у времену и простор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575160" y="129852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712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В.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ОДНОСУ 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КАРАКТЕРИСТИКЕ ОСО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2752200"/>
            <a:ext cx="82263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Узраст и пол оболелих се обично прв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анализу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због своје честе повезаности 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експозицијом 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ризиком за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ОДНОСУ 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КАРАКТЕРИСТИКЕ ОСО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2117880"/>
            <a:ext cx="822636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Епидемија дијареје код сасвим мал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дец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же да укаже на високо контагиозни инфективни агенс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рема коме су старија деца створила имунит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(инфекције ротавирусима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ећи број оболелих једног пола у некој епидемији пре ј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драз начин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вота, обичаја и специфичне изложнос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его биолошких разлика међу полов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ОДНОСУ 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КАРАКТЕРИСТИКЕ ОСО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82400" y="1760040"/>
            <a:ext cx="8226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Чешће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оболевање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соба одређеног занимањ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у некој епидемији указује на професионалн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експозициј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олевањ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пољопривредник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Ловц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едавној, првој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епидемији туларемиј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Ц.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Србији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→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до експозиције дошло услед контакта с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зечев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Етничке и верске разлике, начин живо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водоснабдевање, исхран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III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КОМБИНАЦИЈЕ (ИНТЕРАКЦИЈЕ) </a:t>
            </a:r>
            <a:br>
              <a:rPr sz="3600"/>
            </a:b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РЕЛЕВАНТНИХ ВАРИЈАБ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2050560"/>
            <a:ext cx="82263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Прикупљене варијабле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 то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истраживања епидемије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не посматра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изолова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Увек имати на уму комбиновано деј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више вариј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IV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ОСТАВИТИ ХИПОТЕЗУ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на осно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2400" y="1944720"/>
            <a:ext cx="82263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.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Постојећег знања (ако га има) 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одговарајућој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Б.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Сличности са болестима позна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етиолог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4600" y="791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Поставити хипотезу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82400" y="2475000"/>
            <a:ext cx="822636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Епидемиолог на основу прикупљених подата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поставља хипотезу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о ИЗВОРУ АГЕНСА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биолошког,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физичког 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емијског)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и ПУТУ ШИРЕЊА</a:t>
            </a: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ја би објаснила зашто је и како до епидемије дош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Поставити хипотез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2636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акон разговора са више оболелих, са локални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здравственим радницима, након анализе дескриптивно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епидемиолошких података, хипотеза може да с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дограђује или радикално мењ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Када је реч о заразним болестима имати на уму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ff33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ко су могући резервоари те боле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ff33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како се она преноси 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ff33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који су познати фактори ризика за њен настан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V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ТЕСТИРАТИ ХИПОТЕЗ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47560" y="2235240"/>
            <a:ext cx="813456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Детаљније анализовати постојећ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пода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Прикупити додатне пода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7680" y="259920"/>
            <a:ext cx="880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ема истраживања епидемије</a:t>
            </a:r>
            <a:br>
              <a:rPr sz="2400"/>
            </a:b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(по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Gordisu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2000)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додатна објашњењ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Радовановић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, 2000)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финисати епидем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итати расподелу оболел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и пажњу на комбин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нтеракције) релевантних вариј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вити хипоте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стирати хипоте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ложити мере спречавања и сузб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8316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Тестирати хипотезу 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pl-PL" sz="4000" spc="-1" strike="noStrike">
                <a:solidFill>
                  <a:srgbClr val="66ff33"/>
                </a:solidFill>
                <a:latin typeface="Arial"/>
              </a:rPr>
              <a:t>два начина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2103120"/>
            <a:ext cx="8226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оређење хипотезе са прикупљен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чињеница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Коришћење аналитичког мет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1640" y="47268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1.ПОРЕЂЕЊЕ ХИПОТЕЗЕ СА ПРИКУПЉЕНИМ ЧИЊЕНИЦАМА</a:t>
            </a: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у циљу разјашњавања епидемиј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3760" y="1706040"/>
            <a:ext cx="8226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"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ериј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 случајев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Лекар прикупи податке о свим оболелим 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епидемиј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а основу њихове изложености покуша да објас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ако је до епидемије дош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ради се о тзв. "серији случајева", тј. "сериј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болесника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Овај приступ може бити довољан, нарочито ако ј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ложеност неуобичаје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Епидемије интоксикације витамином 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запажено је да су сви оболели пили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витаминизирано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млеко са ист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фар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1400" y="593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ПОРЕЂЕЊЕ ХИПОТЕЗЕ СА </a:t>
            </a: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ПРИКУПЉЕНИМ ЧИЊЕНИЦАМА у циљу разјашњавања епидемиј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2013120"/>
            <a:ext cx="822636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66ff33"/>
                </a:solidFill>
                <a:uFillTx/>
                <a:latin typeface="Arial"/>
              </a:rPr>
              <a:t>СТУДИЈЕ ПРЕСЕКА</a:t>
            </a: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 тј. преваленције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з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разјашњавањ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епидем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тролне групе здравих и оболелих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цизирању мест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та преноше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ек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нтролну групу здравих чине особе из колектива 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ме се епидемија јавила, а које су остале здра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јер нису биле изложене аген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нтролну групу оболелих чине особе кој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припадају колективу у коме се епидемија јавил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ли су оболеле јер су биле изложене аген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6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КОРИШЋЕЊЕ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НАЛИТИЧКО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МЕТОДА ЗА РАЗЈАШЊАВ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88600" y="1800360"/>
            <a:ext cx="822636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а наведени методски приступ није довоља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јашњавање епидемије користе се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Arial"/>
              </a:rPr>
              <a:t>КОХОРТН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66ff33"/>
                </a:solidFill>
                <a:uFillTx/>
                <a:latin typeface="Arial"/>
              </a:rPr>
              <a:t>	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АНАМНЕСТИЧК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студ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хортним студијама подела испитаника у груп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снива се на изложености суспектном фактор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изика (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група изложен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група неизложен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пидемија се већ десила,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ретроспективног је тип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исти се при анализи епидемија насталих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у деф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РИШЋЕЊЕ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НАЛИТИЧКО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МЕТОДА ЗА РАЗЈАШЊАВ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400" y="1969560"/>
            <a:ext cx="8226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ХОРТНЕ СТУД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Епидемије гастроентеритиса међ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аницама на свадбено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чку, када је лис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стију доступ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 званице питане шта су јеле и да ли с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олеле или 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РИШЋЕЊЕ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НАЛИТИЧКО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МЕТОДА ЗА РАЗЈАШЊАВ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9051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МНЕСТИЧКА СТУД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а не постоје подаци о изложеној популацији (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 све у одређеном ресторану наручио хамбург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које се сумња да су довели до дијареј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ња о конзумирању хамбургера постављају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цима са дијарејом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упа оболел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оредивој групи грађана која не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астроинтестиналне сметњ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тролна груп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РЕДЕФИНИСАТИ ХИПОТЕЗУ И ПРИКУПИТИ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НОВЕ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П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ОДА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5800" y="1599840"/>
            <a:ext cx="82663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Када аналитичке студије не могу да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тврд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стављену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ипотезу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Епидемије коју је изазвала Salmonel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enchen у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А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намнестичком студијом није могла бит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тврђе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хипотеза о храни као извор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бзиром да су чешће оболевале младе особе, урађено ј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одатно интервјуисањ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ажња је обраћена на могућ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ложеност млад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руга анамнестичка студија је указала да се узрочни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ширио путем марихуа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100440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VI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РЕДЛО</a:t>
            </a: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ИТИ МЕРЕ СПРЕ</a:t>
            </a: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АВАЊА И СУЗБИЈАЊ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9717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6ff33"/>
                </a:solidFill>
                <a:latin typeface="Arial"/>
              </a:rPr>
              <a:t>А.</a:t>
            </a:r>
            <a:r>
              <a:rPr b="0" lang="sr-Latn-CS" sz="3200" spc="-1" strike="noStrike">
                <a:solidFill>
                  <a:srgbClr val="66ff33"/>
                </a:solidFill>
                <a:latin typeface="Arial"/>
              </a:rPr>
              <a:t>Сузбијање постојећ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6ff33"/>
                </a:solidFill>
                <a:latin typeface="Arial"/>
              </a:rPr>
              <a:t>Б.</a:t>
            </a:r>
            <a:r>
              <a:rPr b="0" lang="sr-Latn-CS" sz="3200" spc="-1" strike="noStrike">
                <a:solidFill>
                  <a:srgbClr val="66ff33"/>
                </a:solidFill>
                <a:latin typeface="Arial"/>
              </a:rPr>
              <a:t>Спречавања будућих сличн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узбијање постојеће епидемије</a:t>
            </a:r>
            <a:br>
              <a:rPr sz="2800"/>
            </a:br>
            <a:r>
              <a:rPr b="0" lang="sr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Предузет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је мог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е раније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м су пут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рења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вор познати или се барем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аслућуј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мер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узбија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ништавањ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контаминиране хране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хлорисање вод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дезинсекциј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удаљавање оболелог који ради у припреми хран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овешћ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до прекида даљег тока епидемиј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узбијање постојеће епидемиј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20383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рв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мере сузбијањ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азирају н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ограничен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четн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информацијама (док јо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нису довољно познати етиологија болести и извор) и могу у даљем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страживању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епидемије бити модификова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41320" y="1082160"/>
            <a:ext cx="7840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Шема истраживања епидем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9440" y="2871360"/>
            <a:ext cx="7353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ДЕФИНИСАТИ ЕПИДЕМИЈ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499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узбијање постојеће епидемије</a:t>
            </a: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66360" y="2222640"/>
            <a:ext cx="76978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ргентност примене мера сузбијања одређу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43416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тежин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43416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пидемијски потенцијал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Тежина обољења</a:t>
            </a:r>
            <a:r>
              <a:rPr b="0" lang="sr-Latn-C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6600"/>
                </a:solidFill>
                <a:latin typeface="Arial"/>
              </a:rPr>
              <a:t>→</a:t>
            </a:r>
            <a:r>
              <a:rPr b="0" lang="sr-Latn-C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тепен компликација и смрт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сход, дужину болести, неопходност лечењ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оспитализ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узбијање постојећ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3760" y="2332080"/>
            <a:ext cx="781668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У епидемијама обољења код којих постоји висок ризик од умирања и које се шире експлозив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Arial"/>
              </a:rPr>
              <a:t>одмах применити мере које у том тренутку изгледају најоправдан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Arial"/>
              </a:rPr>
              <a:t>кориговати мере у зависности од информација 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</a:rPr>
              <a:t>рикупљених у наставку истраживањ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едложити мере спречавања и сузбијања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81296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јава беснила у хуманој популацији или тровањ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раном у колективу захтевају примену ургентн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грожена популација мора бити информисана 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пидемији и предузетим мерама зашт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траживање епидемије и предузимањ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тивепидемијских мера су идеална прилика да се нова сазнања искористе за превентивне, однос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ре спреча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Б.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Спречавањ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 будућих сличних епидем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000" y="179856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кон епидемије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популациј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е мотивисана 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прихвати савет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,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друштвена заједниц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инвестира средст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ставља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снов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за спречав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удућ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2840" y="433440"/>
            <a:ext cx="82659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ДЕФИНИСАТИ ЕПИДЕМИЈУ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347480"/>
            <a:ext cx="822636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Дефинисати бројилац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лучаје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линичке одлике: да ли је болест позна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шта показују лабораторијски подац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а ли су узроци бар делимично позна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Дефинисати именилац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која је попул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зложена ризику оболевањ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Израчунати стопе јављањ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11360" indent="-71136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ДЕФИНИСАТИ ЕПИДЕМИЈУ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1/2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000" y="1452600"/>
            <a:ext cx="84517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Утврдити</a:t>
            </a: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ff33"/>
                </a:solidFill>
                <a:latin typeface="Arial"/>
              </a:rPr>
              <a:t>д</a:t>
            </a:r>
            <a:r>
              <a:rPr b="0" lang="sr-Latn-CS" sz="4000" spc="-1" strike="noStrike">
                <a:solidFill>
                  <a:srgbClr val="ccff33"/>
                </a:solidFill>
                <a:latin typeface="Arial"/>
              </a:rPr>
              <a:t>а ли се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 заиста ради о епидемији</a:t>
            </a: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тј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а ли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честалос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те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болести превазилази њен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обичајену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честалост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 одређеној популацији з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ати временски период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2600" y="274320"/>
            <a:ext cx="867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.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ДЕФИНИСАТИ ЕПИДЕМИЈ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/2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реди се тренутни број оболелих са број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болелих у претходном периoд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недeља, мeсe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ли гoд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раст броја оболелих артефак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стао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бог 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мена у начину пријављивања болести (пораста интересовањ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 неко обољењ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љен истраживањем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aрљив клиничa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ји педантно пријављује обољењ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меном у дијaгностиц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аснована је на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клиничким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лабораторијским и епидемиолошким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карактеристика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остављена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на основу клиничког налаз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(симптома и знакова болести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отврђује се стандардним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лабораторијск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техникам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ао што су серолошке реакције и/и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дентификација аген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ко се лабораторијски налази не слажу с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линичким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требна је њихова прове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ије препоручљиво да се у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страживањ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епидем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ристе нове лабораторијске техни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17640" y="19692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ff33"/>
                </a:solidFill>
                <a:latin typeface="Arial"/>
              </a:rPr>
              <a:t>Дијагноза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6:43:41Z</dcterms:created>
  <dc:creator>User</dc:creator>
  <dc:description/>
  <dc:language>en-US</dc:language>
  <cp:lastModifiedBy> </cp:lastModifiedBy>
  <dcterms:modified xsi:type="dcterms:W3CDTF">2015-09-10T10:35:19Z</dcterms:modified>
  <cp:revision>181</cp:revision>
  <dc:subject/>
  <dc:title>Slide 1</dc:title>
</cp:coreProperties>
</file>